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0AA-195B-4BF0-8AFF-EB7626F3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2F4-3FBF-4565-9423-C1585A71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4E5-4A28-4AE2-B578-1CB12C33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3BE-EA43-4339-BC86-D41D059C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8F9-02A9-4DF8-BA08-C9BAC6D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2AC-A4D6-43DB-937A-BD8E6C3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25D-46E2-420F-82DC-D20A49A2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BBD-66E6-47E5-9B1A-81C2843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0A0-860A-4537-BB50-739806D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477-ACB7-4B1B-B2B9-012DD2C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003-3D50-4694-B982-6EEA4BE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D05-4350-489C-95B6-798C038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C3F-3A93-4E36-AAF4-1FC7A568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timeinc.net/time/time100/images/main_freud.jpg&amp;imgrefurl=http://random.splinder.com/archive/2006-05&amp;h=250&amp;w=376&amp;sz=13&amp;hl=en&amp;start=2&amp;tbnid=d6U5nk-GHAketM:&amp;tbnh=81&amp;tbnw=122&amp;prev=/images%3Fq%3Dfreud%26svnum%3D10%26hl%3Den%26lr%3D%26rls%3DHPIA,HPIA:2005-33,HPIA: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nnawilliams.net/index.php?eID=tx_cms_showpic&amp;file=uploads%2Fpics%2Fdonna_williams_051.jpg&amp;width=800m&amp;height=600m&amp;bodyTag=%3Cbody%20bgcolor%3D%22black%22%3E&amp;wrap=%3Ca%20href%3D%22javascript%3Aclose%28%29%3B%22%3E%20%7C%20%3C%2Fa%3E&amp;md5=d7086274844be557a250958c4f0df366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donnawilliams.net/index.php?eID=tx_cms_showpic&amp;file=uploads%2Fpics%2Fdonna_williams_052.jpg&amp;width=800m&amp;height=600m&amp;bodyTag=%3Cbody%20bgcolor%3D%22black%22%3E&amp;wrap=%3Ca%20href%3D%22javascript%3Aclose%28%29%3B%22%3E%20%7C%20%3C%2Fa%3E&amp;md5=6007d9060cc89cd7f9480257b435cb56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donnawilliams.net/Gallery/slides/Bouquet.php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donnawilliams.net/Gallery/slides/Breach%20of%20Security.php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donnawilliams.net/Gallery/slides/Briskly.php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donnawilliams.net/Gallery/slides/Becoming.php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donnawilliams.net/index.php?eID=tx_cms_showpic&amp;file=uploads%2Fpics%2Fdonna_williams_051.jpg&amp;width=800m&amp;height=600m&amp;bodyTag=%3Cbody%20bgcolor%3D%22black%22%3E&amp;wrap=%3Ca%20href%3D%22javascript%3Aclose%28%29%3B%22%3E%20%7C%20%3C%2Fa%3E&amp;md5=d7086274844be557a250958c4f0df3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donnawilliams.net/index.php?eID=tx_cms_showpic&amp;file=uploads%2Fpics%2Fdonna_williams_050.jpg&amp;width=800m&amp;height=600m&amp;bodyTag=%3Cbody%20bgcolor%3D%22black%22%3E&amp;wrap=%3Ca%20href%3D%22javascript%3Aclose%28%29%3B%22%3E%20%7C%20%3C%2Fa%3E&amp;md5=7eda9f1270f1e1405b6ef4e752d1dc1e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donnawilliams.net/index.php?eID=tx_cms_showpic&amp;file=uploads%2Fpics%2Fdonna_williams_052.jpg&amp;width=800m&amp;height=600m&amp;bodyTag=%3Cbody%20bgcolor%3D%22black%22%3E&amp;wrap=%3Ca%20href%3D%22javascript%3Aclose%28%29%3B%22%3E%20%7C%20%3C%2Fa%3E&amp;md5=6007d9060cc89cd7f9480257b435cb56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Module 1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Discovering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304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eneral Ps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ain_freu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133720"/>
            <a:ext cx="2714400" cy="180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richdiesslin_pavlovs_dog"/>
          <p:cNvPicPr/>
          <p:nvPr/>
        </p:nvPicPr>
        <p:blipFill>
          <a:blip r:embed="rId3"/>
          <a:stretch/>
        </p:blipFill>
        <p:spPr>
          <a:xfrm>
            <a:off x="5334120" y="2666880"/>
            <a:ext cx="3262320" cy="32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MASLOW"/>
          <p:cNvPicPr/>
          <p:nvPr/>
        </p:nvPicPr>
        <p:blipFill>
          <a:blip r:embed="rId4"/>
          <a:stretch/>
        </p:blipFill>
        <p:spPr>
          <a:xfrm>
            <a:off x="2209680" y="4114800"/>
            <a:ext cx="281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elix Titling"/>
              </a:rPr>
              <a:t>Humanist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s that each individual has great freedom in directing his or he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81280" y="4952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: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FIGHT AUTISM…I WILL CONTROL IT…IT WILL NOT CONTROL 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litt53a"/>
          <p:cNvPicPr/>
          <p:nvPr/>
        </p:nvPicPr>
        <p:blipFill>
          <a:blip r:embed="rId1"/>
          <a:stretch/>
        </p:blipFill>
        <p:spPr>
          <a:xfrm>
            <a:off x="457200" y="2666880"/>
            <a:ext cx="279576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hoto_gb-individuality_01_image"/>
          <p:cNvPicPr/>
          <p:nvPr/>
        </p:nvPicPr>
        <p:blipFill>
          <a:blip r:embed="rId2"/>
          <a:stretch/>
        </p:blipFill>
        <p:spPr>
          <a:xfrm>
            <a:off x="4648320" y="2590920"/>
            <a:ext cx="28954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Cross-Cultural Appro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5909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23920" y="259092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the influence of cultural and ethnic similarities and differences on psychological and social functio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Flag"/>
          <p:cNvPicPr/>
          <p:nvPr/>
        </p:nvPicPr>
        <p:blipFill>
          <a:blip r:embed="rId1"/>
          <a:stretch/>
        </p:blipFill>
        <p:spPr>
          <a:xfrm>
            <a:off x="1371600" y="281952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erman%2520flag"/>
          <p:cNvPicPr/>
          <p:nvPr/>
        </p:nvPicPr>
        <p:blipFill>
          <a:blip r:embed="rId2"/>
          <a:stretch/>
        </p:blipFill>
        <p:spPr>
          <a:xfrm>
            <a:off x="5410080" y="2895480"/>
            <a:ext cx="251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Historical Approaches 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o  Psychology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ism: elements of the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helm Wundt; introsp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sm: Functions of the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James; angry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ism: Observable Behavi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B. Watson; guaran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alt Approach: sensations vs. Perce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Wertheimer; blinking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837R-723"/>
          <p:cNvPicPr/>
          <p:nvPr/>
        </p:nvPicPr>
        <p:blipFill>
          <a:blip r:embed="rId1"/>
          <a:stretch/>
        </p:blipFill>
        <p:spPr>
          <a:xfrm>
            <a:off x="380880" y="763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65888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28916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3657600" y="4952880"/>
            <a:ext cx="1144440" cy="17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traffic_sign_road_sign_arrow_TS01"/>
          <p:cNvPicPr/>
          <p:nvPr/>
        </p:nvPicPr>
        <p:blipFill>
          <a:blip r:embed="rId5"/>
          <a:stretch/>
        </p:blipFill>
        <p:spPr>
          <a:xfrm>
            <a:off x="228600" y="4800600"/>
            <a:ext cx="11415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omen &amp; Minoritie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14400" y="1219320"/>
            <a:ext cx="213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uth Ho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First African-American woman to receive a Ph.D. in psychology (19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136224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alkins"/>
          <p:cNvPicPr/>
          <p:nvPr/>
        </p:nvPicPr>
        <p:blipFill>
          <a:blip r:embed="rId2"/>
          <a:stretch/>
        </p:blipFill>
        <p:spPr>
          <a:xfrm>
            <a:off x="2209680" y="3200400"/>
            <a:ext cx="108900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200400"/>
            <a:ext cx="2209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y Cal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hough she completed all of the requirements for a Ph.D., she was denied a doctorate by the Harvard administration because she was a 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77120" y="137160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argaret Washb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st woman to earn a Ph.D. in psychology (19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washburn"/>
          <p:cNvPicPr/>
          <p:nvPr/>
        </p:nvPicPr>
        <p:blipFill>
          <a:blip r:embed="rId3"/>
          <a:stretch/>
        </p:blipFill>
        <p:spPr>
          <a:xfrm>
            <a:off x="5045040" y="1447920"/>
            <a:ext cx="127008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1981080" y="56386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, women earn more Ph.D.s in psychology than men, however, in 1991 there were more male full-time psychologists than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657600" y="3429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1920 and 1966, only 8 Ph.D.s were awarded to Black students, compared to 3,767 doctorates to Wh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rom 1892 to 1990, the cumulative membership of the APA was 128,000; 700 African American, 700 Latino, and 70 Native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reas of 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&amp; Pers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psychology involves the study of social interactions, stereotypes, prejudices, attitudes, conformity, group behaviors, and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ity psychology involves the study of personality development, personality change, assessment, and abnormal behav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s moral, social, emotional, and cognitive development throughout a person’s life 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areas of sensation, perception, learning, human performance, motivation, and e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s research on the physical &amp; chemical changes that occur during stress, learning, and emo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47242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volves how we process, store, and retrieve information and how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 processes influence our behavio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ocuses on the measurement of people’s abilities, skills,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ce, personality, and abnorm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odule 2: Psychology &amp; Sc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sychology4a"/>
          <p:cNvPicPr/>
          <p:nvPr/>
        </p:nvPicPr>
        <p:blipFill>
          <a:blip r:embed="rId1"/>
          <a:stretch/>
        </p:blipFill>
        <p:spPr>
          <a:xfrm>
            <a:off x="2666880" y="1752480"/>
            <a:ext cx="3659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elix Titling"/>
              </a:rPr>
              <a:t>Research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for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rubber-ducks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ystematic, scientific study of behaviors and mental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ehaviors = observable actions or responses (ru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ntal Processes = not observable (thin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Definition of Psych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reading"/>
          <p:cNvPicPr/>
          <p:nvPr/>
        </p:nvPicPr>
        <p:blipFill>
          <a:blip r:embed="rId1"/>
          <a:stretch/>
        </p:blipFill>
        <p:spPr>
          <a:xfrm>
            <a:off x="1143000" y="2666880"/>
            <a:ext cx="2359080" cy="157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ightbulb%20idea"/>
          <p:cNvPicPr/>
          <p:nvPr/>
        </p:nvPicPr>
        <p:blipFill>
          <a:blip r:embed="rId2"/>
          <a:stretch/>
        </p:blipFill>
        <p:spPr>
          <a:xfrm>
            <a:off x="4952880" y="25909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louds-fire-border-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Light"/>
              </a:rPr>
              <a:t>Goals of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ifferent ways organisms be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causes o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w organisms will behav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n organism’s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sopranos03"/>
          <p:cNvPicPr/>
          <p:nvPr/>
        </p:nvPicPr>
        <p:blipFill>
          <a:blip r:embed="rId2"/>
          <a:stretch/>
        </p:blipFill>
        <p:spPr>
          <a:xfrm>
            <a:off x="3505320" y="4419720"/>
            <a:ext cx="2381040" cy="159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sopranos10102"/>
          <p:cNvPicPr/>
          <p:nvPr/>
        </p:nvPicPr>
        <p:blipFill>
          <a:blip r:embed="rId3"/>
          <a:stretch/>
        </p:blipFill>
        <p:spPr>
          <a:xfrm>
            <a:off x="609480" y="3809880"/>
            <a:ext cx="2667240" cy="152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phrenology-b"/>
          <p:cNvPicPr/>
          <p:nvPr/>
        </p:nvPicPr>
        <p:blipFill>
          <a:blip r:embed="rId4"/>
          <a:stretch/>
        </p:blipFill>
        <p:spPr>
          <a:xfrm>
            <a:off x="6477120" y="3657600"/>
            <a:ext cx="1780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cd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Donna Willi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50800" y="2133720"/>
            <a:ext cx="66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Explain</a:t>
            </a: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genetic and biological factors (Aut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25600" y="2590920"/>
            <a:ext cx="6591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utistic children usually have diffi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learning in school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easily overwhel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066680" y="3505320"/>
            <a:ext cx="1105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-Control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rule to only meet one person at a ti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o avoid being overwhel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066680" y="1447920"/>
            <a:ext cx="6324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Rockwell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: Tapping &amp; Twirling fingers to escape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92f4cb4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49568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4f27c663ca"/>
          <p:cNvPicPr/>
          <p:nvPr/>
        </p:nvPicPr>
        <p:blipFill>
          <a:blip r:embed="rId3"/>
          <a:stretch/>
        </p:blipFill>
        <p:spPr>
          <a:xfrm>
            <a:off x="5638680" y="4267080"/>
            <a:ext cx="174312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1b426823a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4267080"/>
            <a:ext cx="1323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c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Modern Approaches to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5520" y="3886200"/>
            <a:ext cx="4038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an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l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Logo%20scienze%20cognitive"/>
          <p:cNvPicPr/>
          <p:nvPr/>
        </p:nvPicPr>
        <p:blipFill>
          <a:blip r:embed="rId1"/>
          <a:stretch/>
        </p:blipFill>
        <p:spPr>
          <a:xfrm>
            <a:off x="762120" y="1295280"/>
            <a:ext cx="210348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hp-symbol"/>
          <p:cNvPicPr/>
          <p:nvPr/>
        </p:nvPicPr>
        <p:blipFill>
          <a:blip r:embed="rId2"/>
          <a:stretch/>
        </p:blipFill>
        <p:spPr>
          <a:xfrm>
            <a:off x="5867280" y="2057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Biological Approa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95680" y="6126120"/>
            <a:ext cx="76320" cy="122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how our genes, hormones, and nervous system interact w/ our environments to influence learning, personality, memory, motivation, emotions, and coping 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16002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utistic brain uses the same area to process both objects and human faces; may have trouble distinguishing the two from each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0"/>
          <p:cNvPicPr/>
          <p:nvPr/>
        </p:nvPicPr>
        <p:blipFill>
          <a:blip r:embed="rId2"/>
          <a:stretch/>
        </p:blipFill>
        <p:spPr>
          <a:xfrm>
            <a:off x="762120" y="3276720"/>
            <a:ext cx="3543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gni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s on how we process, store, and use information and how this information influences what we attend to, perceive, learn, remember, believe, and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n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ism stops me from using my own words when I want to.  Or makes me say silly things I do not want to say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ouqu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724280"/>
            <a:ext cx="124308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Breach%20of%20Securit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4724280"/>
            <a:ext cx="1312920" cy="167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Brisk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4648320"/>
            <a:ext cx="133956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Becom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4648320"/>
            <a:ext cx="1341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0666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67057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s how organisms learn new behaviors or modify existing ones, depending on whether events in their environments reward or punish these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4f27c663ca"/>
          <p:cNvPicPr/>
          <p:nvPr/>
        </p:nvPicPr>
        <p:blipFill>
          <a:blip r:embed="rId1"/>
          <a:stretch/>
        </p:blipFill>
        <p:spPr>
          <a:xfrm>
            <a:off x="6324480" y="4267080"/>
            <a:ext cx="174312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92f4cb48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0"/>
            <a:ext cx="183852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2590920" y="380880"/>
            <a:ext cx="6019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ap suds, no making the fruit in the bowl symmetrical, no lining feet up with furnitur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16fb76c18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3886200"/>
            <a:ext cx="132372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1b426823a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1752480"/>
            <a:ext cx="1324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analyt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71440" y="42667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hood experiences greatly influence development of later personality traits and psychological problems—also unconscious, fears, desires, and motiv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80880" y="1676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n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ic and abusive mother, absent father which led to “Willie” and “Caro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foster"/>
          <p:cNvPicPr/>
          <p:nvPr/>
        </p:nvPicPr>
        <p:blipFill>
          <a:blip r:embed="rId1"/>
          <a:stretch/>
        </p:blipFill>
        <p:spPr>
          <a:xfrm>
            <a:off x="609480" y="3581280"/>
            <a:ext cx="221004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aginary_friend"/>
          <p:cNvPicPr/>
          <p:nvPr/>
        </p:nvPicPr>
        <p:blipFill>
          <a:blip r:embed="rId2"/>
          <a:stretch/>
        </p:blipFill>
        <p:spPr>
          <a:xfrm>
            <a:off x="4724280" y="1143000"/>
            <a:ext cx="291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23:48:19Z</dcterms:created>
  <dc:creator>tmacleod</dc:creator>
  <dc:description/>
  <dc:language>en-US</dc:language>
  <cp:lastModifiedBy>hberndt</cp:lastModifiedBy>
  <dcterms:modified xsi:type="dcterms:W3CDTF">2009-01-28T17:32:21Z</dcterms:modified>
  <cp:revision>11</cp:revision>
  <dc:subject/>
  <dc:title>Module 1:  Discovering Psychology</dc:title>
</cp:coreProperties>
</file>